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C08-0489-46B9-BE06-EA1E4101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6E4-A516-4216-B45A-F22DDFF6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1D4-CDD3-42CC-BA2C-14E570F8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428-9D9D-4E8F-9400-98AA47E9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BB1-09CE-49BF-8E2F-DEDF71F4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F6F-2035-49FD-AF54-A580BD7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917-080A-49E7-BA54-B97AC51B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F40-A0FB-4298-9B6D-073733E9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3A5-D506-4B65-A5C9-C493DEA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0F6-C151-4E2C-AA9B-6A1DFB1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957-5686-4497-90EB-7263698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27D-5EE8-4379-B0EE-2DEA963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AC9-C515-48FA-A4AD-E9FA26AB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0680" y="4317840"/>
            <a:ext cx="8748720" cy="1236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401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11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9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2751120"/>
            <a:ext cx="6930360" cy="1373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7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9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7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81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5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90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3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7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2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95320" y="4932360"/>
            <a:ext cx="50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BRZ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0640" y="3929040"/>
            <a:ext cx="44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16240" y="4145040"/>
            <a:ext cx="2387520" cy="2300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problemów z pol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13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4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7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31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43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00" y="34084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2800" y="3068640"/>
            <a:ext cx="158400" cy="1049400"/>
          </a:xfrm>
          <a:prstGeom prst="downArrow">
            <a:avLst>
              <a:gd name="adj1" fmla="val 50000"/>
              <a:gd name="adj2" fmla="val 1656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5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90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5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4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3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7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6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7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5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3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3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21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50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51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9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7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8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6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62160" y="2279520"/>
            <a:ext cx="4012200" cy="3426840"/>
            <a:chOff x="2162160" y="2279520"/>
            <a:chExt cx="4012200" cy="3426840"/>
          </a:xfrm>
        </p:grpSpPr>
        <p:sp>
          <p:nvSpPr>
            <p:cNvPr id="912" name=""/>
            <p:cNvSpPr/>
            <p:nvPr/>
          </p:nvSpPr>
          <p:spPr>
            <a:xfrm>
              <a:off x="3270240" y="2347920"/>
              <a:ext cx="144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16200" y="3711600"/>
              <a:ext cx="511200" cy="509400"/>
              <a:chOff x="2716200" y="3711600"/>
              <a:chExt cx="511200" cy="509400"/>
            </a:xfrm>
          </p:grpSpPr>
          <p:sp>
            <p:nvSpPr>
              <p:cNvPr id="914" name=""/>
              <p:cNvSpPr/>
              <p:nvPr/>
            </p:nvSpPr>
            <p:spPr>
              <a:xfrm>
                <a:off x="2716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2908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2908440" y="3732120"/>
                <a:ext cx="164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08440" y="4029120"/>
                <a:ext cx="16956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6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303696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971440" y="4157640"/>
                <a:ext cx="65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 flipV="1">
              <a:off x="3100320" y="354168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14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70240" y="4394160"/>
              <a:ext cx="144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86000" y="251784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1656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6884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332080" y="39672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678200" y="3711600"/>
              <a:ext cx="511200" cy="509400"/>
              <a:chOff x="4678200" y="3711600"/>
              <a:chExt cx="511200" cy="509400"/>
            </a:xfrm>
          </p:grpSpPr>
          <p:sp>
            <p:nvSpPr>
              <p:cNvPr id="929" name=""/>
              <p:cNvSpPr/>
              <p:nvPr/>
            </p:nvSpPr>
            <p:spPr>
              <a:xfrm>
                <a:off x="4678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4870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4870440" y="3732120"/>
                <a:ext cx="16524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870440" y="4029120"/>
                <a:ext cx="16992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78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499752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4933440" y="415764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5060880" y="3541680"/>
              <a:ext cx="17136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76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08400" y="3370320"/>
              <a:ext cx="1800" cy="213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08400" y="3967200"/>
              <a:ext cx="513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24160" y="456408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2240" y="2347920"/>
              <a:ext cx="180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46560" y="2517840"/>
              <a:ext cx="1717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32240" y="4394160"/>
              <a:ext cx="180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0240" y="5075280"/>
              <a:ext cx="144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00320" y="5246640"/>
              <a:ext cx="341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18796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2740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65560" y="39243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87960" y="349740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2740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8796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4572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9800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26440" y="45813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7640" y="4716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4736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1396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9360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6020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45940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89240" y="392436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62160" y="2347920"/>
              <a:ext cx="35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62160" y="5075280"/>
              <a:ext cx="349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17760" y="5502240"/>
              <a:ext cx="3240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75920" y="227952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88440" y="5435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3964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09560" y="241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654360" y="2687760"/>
              <a:ext cx="511200" cy="509400"/>
              <a:chOff x="3654360" y="2687760"/>
              <a:chExt cx="511200" cy="509400"/>
            </a:xfrm>
          </p:grpSpPr>
          <p:sp>
            <p:nvSpPr>
              <p:cNvPr id="970" name=""/>
              <p:cNvSpPr/>
              <p:nvPr/>
            </p:nvSpPr>
            <p:spPr>
              <a:xfrm>
                <a:off x="3654360" y="268776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846600" y="2814480"/>
                <a:ext cx="14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846600" y="2709720"/>
                <a:ext cx="164880" cy="16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46600" y="3006720"/>
                <a:ext cx="169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4360" y="294156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73680" y="3069720"/>
                <a:ext cx="144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909600" y="313380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 flipV="1">
              <a:off x="4038480" y="251784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52800" y="3114720"/>
              <a:ext cx="255600" cy="25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270240" y="29448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122720" y="3583080"/>
              <a:ext cx="257040" cy="171360"/>
              <a:chOff x="4122720" y="3583080"/>
              <a:chExt cx="257040" cy="171360"/>
            </a:xfrm>
          </p:grpSpPr>
          <p:sp>
            <p:nvSpPr>
              <p:cNvPr id="981" name=""/>
              <p:cNvSpPr/>
              <p:nvPr/>
            </p:nvSpPr>
            <p:spPr>
              <a:xfrm>
                <a:off x="4122720" y="358308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108"/>
                    </a:moveTo>
                    <a:lnTo>
                      <a:pt x="108" y="108"/>
                    </a:lnTo>
                    <a:lnTo>
                      <a:pt x="54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22720" y="358308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294080" y="3583080"/>
                <a:ext cx="8568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 flipV="1">
              <a:off x="4208400" y="2347920"/>
              <a:ext cx="180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86880" y="3389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0920" y="29019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72040" y="233208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napięcia lub prą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órych zmiany mogą następować 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90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92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1002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1009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1013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1032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1036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1042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1049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1053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1074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1077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90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102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587320" y="4565520"/>
            <a:ext cx="3164040" cy="1719360"/>
            <a:chOff x="2587320" y="4565520"/>
            <a:chExt cx="3164040" cy="1719360"/>
          </a:xfrm>
        </p:grpSpPr>
        <p:sp>
          <p:nvSpPr>
            <p:cNvPr id="1118" name=""/>
            <p:cNvSpPr/>
            <p:nvPr/>
          </p:nvSpPr>
          <p:spPr>
            <a:xfrm>
              <a:off x="3908520" y="4565520"/>
              <a:ext cx="1842840" cy="1719360"/>
            </a:xfrm>
            <a:custGeom>
              <a:avLst/>
              <a:gdLst/>
              <a:ahLst/>
              <a:rect l="l" t="t" r="r" b="b"/>
              <a:pathLst>
                <a:path w="607" h="693">
                  <a:moveTo>
                    <a:pt x="0" y="0"/>
                  </a:moveTo>
                  <a:lnTo>
                    <a:pt x="0" y="693"/>
                  </a:lnTo>
                  <a:lnTo>
                    <a:pt x="607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462480" y="5135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486240" y="57164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251240" y="5034960"/>
              <a:ext cx="117720" cy="222840"/>
              <a:chOff x="4251240" y="5034960"/>
              <a:chExt cx="117720" cy="222840"/>
            </a:xfrm>
          </p:grpSpPr>
          <p:sp>
            <p:nvSpPr>
              <p:cNvPr id="1122" name=""/>
              <p:cNvSpPr/>
              <p:nvPr/>
            </p:nvSpPr>
            <p:spPr>
              <a:xfrm>
                <a:off x="4251240" y="5035320"/>
                <a:ext cx="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51240" y="51465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251240" y="50349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254480" y="5621400"/>
              <a:ext cx="117360" cy="222120"/>
              <a:chOff x="4254480" y="5621400"/>
              <a:chExt cx="117360" cy="222120"/>
            </a:xfrm>
          </p:grpSpPr>
          <p:sp>
            <p:nvSpPr>
              <p:cNvPr id="1126" name=""/>
              <p:cNvSpPr/>
              <p:nvPr/>
            </p:nvSpPr>
            <p:spPr>
              <a:xfrm>
                <a:off x="4254480" y="5621400"/>
                <a:ext cx="0" cy="22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254480" y="573228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54480" y="562140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191040" y="513540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87320" y="493056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30640" y="571968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26920" y="55148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135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140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143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152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155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186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194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200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203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208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214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25440" y="2092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441760" y="207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75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78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91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320" y="1541880"/>
            <a:ext cx="2422800" cy="368640"/>
          </a:xfrm>
          <a:prstGeom prst="wedgeRectCallout">
            <a:avLst>
              <a:gd name="adj1" fmla="val 78032"/>
              <a:gd name="adj2" fmla="val 2235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30640" y="1051560"/>
            <a:ext cx="2422800" cy="368640"/>
          </a:xfrm>
          <a:prstGeom prst="wedgeRectCallout">
            <a:avLst>
              <a:gd name="adj1" fmla="val -84597"/>
              <a:gd name="adj2" fmla="val 361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90840" y="749880"/>
            <a:ext cx="2206080" cy="368640"/>
          </a:xfrm>
          <a:prstGeom prst="wedgeRectCallout">
            <a:avLst>
              <a:gd name="adj1" fmla="val -16259"/>
              <a:gd name="adj2" fmla="val 2984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yjście symetrycz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08080" y="2709720"/>
            <a:ext cx="5504040" cy="3162600"/>
          </a:xfrm>
          <a:custGeom>
            <a:avLst/>
            <a:gdLst/>
            <a:ahLst/>
            <a:rect l="l" t="t" r="r" b="b"/>
            <a:pathLst>
              <a:path w="3467" h="1992">
                <a:moveTo>
                  <a:pt x="13" y="459"/>
                </a:moveTo>
                <a:cubicBezTo>
                  <a:pt x="19" y="394"/>
                  <a:pt x="0" y="140"/>
                  <a:pt x="52" y="70"/>
                </a:cubicBezTo>
                <a:cubicBezTo>
                  <a:pt x="104" y="0"/>
                  <a:pt x="233" y="35"/>
                  <a:pt x="325" y="39"/>
                </a:cubicBezTo>
                <a:cubicBezTo>
                  <a:pt x="417" y="43"/>
                  <a:pt x="519" y="44"/>
                  <a:pt x="605" y="93"/>
                </a:cubicBezTo>
                <a:cubicBezTo>
                  <a:pt x="691" y="142"/>
                  <a:pt x="794" y="256"/>
                  <a:pt x="839" y="335"/>
                </a:cubicBezTo>
                <a:cubicBezTo>
                  <a:pt x="884" y="414"/>
                  <a:pt x="866" y="494"/>
                  <a:pt x="878" y="569"/>
                </a:cubicBezTo>
                <a:cubicBezTo>
                  <a:pt x="890" y="644"/>
                  <a:pt x="865" y="740"/>
                  <a:pt x="909" y="787"/>
                </a:cubicBezTo>
                <a:cubicBezTo>
                  <a:pt x="953" y="834"/>
                  <a:pt x="1085" y="811"/>
                  <a:pt x="1143" y="849"/>
                </a:cubicBezTo>
                <a:cubicBezTo>
                  <a:pt x="1201" y="887"/>
                  <a:pt x="1242" y="917"/>
                  <a:pt x="1260" y="1013"/>
                </a:cubicBezTo>
                <a:cubicBezTo>
                  <a:pt x="1278" y="1109"/>
                  <a:pt x="1243" y="1298"/>
                  <a:pt x="1252" y="1426"/>
                </a:cubicBezTo>
                <a:cubicBezTo>
                  <a:pt x="1261" y="1554"/>
                  <a:pt x="1227" y="1692"/>
                  <a:pt x="1314" y="1784"/>
                </a:cubicBezTo>
                <a:cubicBezTo>
                  <a:pt x="1401" y="1876"/>
                  <a:pt x="1471" y="1966"/>
                  <a:pt x="1774" y="1979"/>
                </a:cubicBezTo>
                <a:cubicBezTo>
                  <a:pt x="2077" y="1992"/>
                  <a:pt x="2855" y="1946"/>
                  <a:pt x="3130" y="1862"/>
                </a:cubicBezTo>
                <a:cubicBezTo>
                  <a:pt x="3405" y="1778"/>
                  <a:pt x="3385" y="1611"/>
                  <a:pt x="3426" y="1473"/>
                </a:cubicBezTo>
                <a:cubicBezTo>
                  <a:pt x="3467" y="1335"/>
                  <a:pt x="3373" y="1180"/>
                  <a:pt x="3379" y="1036"/>
                </a:cubicBezTo>
                <a:cubicBezTo>
                  <a:pt x="3385" y="892"/>
                  <a:pt x="3447" y="697"/>
                  <a:pt x="3465" y="6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04760" y="2322360"/>
            <a:ext cx="471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B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43280" y="2743200"/>
            <a:ext cx="5170320" cy="2637000"/>
          </a:xfrm>
          <a:custGeom>
            <a:avLst/>
            <a:gdLst/>
            <a:ahLst/>
            <a:rect l="l" t="t" r="r" b="b"/>
            <a:pathLst>
              <a:path w="3257" h="1661">
                <a:moveTo>
                  <a:pt x="54" y="579"/>
                </a:moveTo>
                <a:cubicBezTo>
                  <a:pt x="27" y="731"/>
                  <a:pt x="0" y="883"/>
                  <a:pt x="62" y="961"/>
                </a:cubicBezTo>
                <a:cubicBezTo>
                  <a:pt x="124" y="1039"/>
                  <a:pt x="177" y="1034"/>
                  <a:pt x="428" y="1046"/>
                </a:cubicBezTo>
                <a:cubicBezTo>
                  <a:pt x="679" y="1058"/>
                  <a:pt x="1222" y="1039"/>
                  <a:pt x="1566" y="1031"/>
                </a:cubicBezTo>
                <a:cubicBezTo>
                  <a:pt x="1910" y="1023"/>
                  <a:pt x="2315" y="1083"/>
                  <a:pt x="2493" y="1000"/>
                </a:cubicBezTo>
                <a:cubicBezTo>
                  <a:pt x="2671" y="917"/>
                  <a:pt x="2621" y="684"/>
                  <a:pt x="2633" y="532"/>
                </a:cubicBezTo>
                <a:cubicBezTo>
                  <a:pt x="2645" y="380"/>
                  <a:pt x="2603" y="170"/>
                  <a:pt x="2563" y="88"/>
                </a:cubicBezTo>
                <a:cubicBezTo>
                  <a:pt x="2523" y="6"/>
                  <a:pt x="2476" y="0"/>
                  <a:pt x="2392" y="41"/>
                </a:cubicBezTo>
                <a:cubicBezTo>
                  <a:pt x="2308" y="82"/>
                  <a:pt x="2119" y="215"/>
                  <a:pt x="2057" y="337"/>
                </a:cubicBezTo>
                <a:cubicBezTo>
                  <a:pt x="1995" y="459"/>
                  <a:pt x="2083" y="688"/>
                  <a:pt x="2018" y="774"/>
                </a:cubicBezTo>
                <a:cubicBezTo>
                  <a:pt x="1953" y="860"/>
                  <a:pt x="1746" y="765"/>
                  <a:pt x="1667" y="852"/>
                </a:cubicBezTo>
                <a:cubicBezTo>
                  <a:pt x="1588" y="939"/>
                  <a:pt x="1516" y="1170"/>
                  <a:pt x="1542" y="1296"/>
                </a:cubicBezTo>
                <a:cubicBezTo>
                  <a:pt x="1568" y="1422"/>
                  <a:pt x="1649" y="1553"/>
                  <a:pt x="1823" y="1607"/>
                </a:cubicBezTo>
                <a:cubicBezTo>
                  <a:pt x="1997" y="1661"/>
                  <a:pt x="2366" y="1649"/>
                  <a:pt x="2587" y="1623"/>
                </a:cubicBezTo>
                <a:cubicBezTo>
                  <a:pt x="2808" y="1597"/>
                  <a:pt x="3042" y="1597"/>
                  <a:pt x="3148" y="1452"/>
                </a:cubicBezTo>
                <a:cubicBezTo>
                  <a:pt x="3254" y="1307"/>
                  <a:pt x="3208" y="901"/>
                  <a:pt x="3226" y="750"/>
                </a:cubicBezTo>
                <a:cubicBezTo>
                  <a:pt x="3244" y="599"/>
                  <a:pt x="3252" y="584"/>
                  <a:pt x="3257" y="548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33440" y="4413240"/>
            <a:ext cx="412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2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47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50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63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367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6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421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424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437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456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460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483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490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494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 wzmacniaczy prądu zmiennego i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533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537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545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548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553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557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563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9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586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1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614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660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675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676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9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dryft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f(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)=const. jeśli 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2384280"/>
            <a:ext cx="5886720" cy="2824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1984320" y="1066680"/>
            <a:ext cx="5300280" cy="3771360"/>
            <a:chOff x="1984320" y="1066680"/>
            <a:chExt cx="5300280" cy="3771360"/>
          </a:xfrm>
        </p:grpSpPr>
        <p:sp>
          <p:nvSpPr>
            <p:cNvPr id="95" name=""/>
            <p:cNvSpPr/>
            <p:nvPr/>
          </p:nvSpPr>
          <p:spPr>
            <a:xfrm>
              <a:off x="6418080" y="437832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[K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43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952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97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317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91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18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84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18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84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1366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125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9600" y="5289480"/>
            <a:ext cx="476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termiczny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 (tranzystory, di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2520" y="1380960"/>
            <a:ext cx="5066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wzmocnienia także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440" y="556092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krótkookresowy - zmiany temperatury w cza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długookresowy - starzenie się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7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 - 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7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8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3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9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8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9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5-04-19T14:58:41Z</dcterms:modified>
  <cp:revision>75</cp:revision>
  <dc:subject/>
  <dc:title>Wzmacniacze prądu stałego</dc:title>
</cp:coreProperties>
</file>